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E5F-90E9-4BF9-839D-09EBE1D8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67F-97BF-451F-8C0F-062210B1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B20-9516-41F7-B87C-F7F207CF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4FE-1572-4D44-9DB3-9785CB62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1FD-ADB5-4A10-ABDA-B8D8C2AC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6F0-7924-46E0-AAF3-579F6AFE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8F2-4233-4DE9-94EC-284DF3F5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B32-41CD-4B48-A8C4-B0D0C8FD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A18-7FE7-4876-B4A1-7E88C39B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7D2-8E8F-47BD-B230-2712EE0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A61-2350-42C9-8DEF-6778A453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451-E07D-48F4-9077-3C42027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704FF-4361-4A76-B81F-4D8E80EFB2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480" y="985680"/>
            <a:ext cx="1008036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480" y="860400"/>
            <a:ext cx="1008036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480" y="906480"/>
            <a:ext cx="10080360" cy="588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